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706-4E1C-4ABC-96CA-79461E2B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38E-9634-4A93-99FA-AC6812F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1291B-7775-4DA0-BCFA-B2F6BD2C4F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76359-D439-4218-BD8C-2783296BB6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74308-D6E2-4CFB-8C86-5FBE4A68FB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E3F23-5D8F-4560-B937-DC09A61175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07A4B-CCBF-4B36-9961-C3EF298A90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455C1-D5B0-49DB-90C0-A62928FB3D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1CFCB-B729-47BB-9FC6-DBFCBB450B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5B011-B925-49B7-ABB2-36176FD73D0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4DEB5-3281-4780-88C4-41E70F941D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A80E5-F81D-48A4-B18B-B9DD27019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184-A4B5-410A-9136-36721A8B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CE440-A9C3-4725-896D-9E6AC4B8E9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5A752-9D85-4391-B94B-BD825BF297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4CBE7-5496-4F90-BFDC-F36BD78EFB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FA9D7-D439-47B1-82B5-D484ADDF46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28C5D-5832-4950-A0F2-887123E3CF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E4858-DAD2-4728-9F8B-21564CF7C23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9FD69-EBE6-4922-B3E6-35C557C5DC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3BA5F-8C29-4795-89C6-2F9D14BA12A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3742F-B100-4AF8-BC3A-58FF60A980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42201-D4CC-43A8-B8DA-C97D9609A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036-BCF2-4820-AD6A-B7F2CF99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54D28-1A10-469B-9074-681AFAAA049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323D-689E-4FEF-8945-585B95CAE8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7617-FB8C-4918-A810-9A95A4F6814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5F97-5C43-446B-A787-D03F657D66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84A2-6013-4330-835B-90660BF5EB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6E2CC-4844-4D04-BD4A-C5AB5830D1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2782-5A18-488A-9F2A-890D800E79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08FE-3357-44C6-A029-8D7F336317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04991-C8E6-4A53-B67A-803924DC477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75417-4C36-419C-949D-432CD8ABA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338B8-C6D6-4824-9096-A4B1B68C78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F5ED-FCF6-4700-A774-10F7B75B33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DA29-D634-4065-9651-BCE1E7352E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E376-ABEB-461D-8695-8706EA220D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A31F8-B06C-49D4-B037-8D3FD1AAD61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5EB67-89D6-4F6F-AAE7-68A5EBF784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390F0-B3C7-43AF-8175-3E488D058E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BF2B60-35D5-477D-97F9-30911F21A3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00FF0-C3A9-41CE-B057-F37ECAC46B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3CC3C-E590-465C-A913-24512D143B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2DDD1-C017-49FB-8090-BF44D1338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91481-83CE-4423-95CD-A7B516CD96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17696-8074-4967-A87F-90C3E83819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634C2-4B52-4B9A-AF1A-CB97104EE4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A1C615-3710-4DA9-9BE8-45BD5259B75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624CE-9E4B-4F4F-9104-40D8D10DED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EBA068-5FB0-47B4-AF47-8B3328543D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C63D9-DEFA-44AD-8502-61D3694C09A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C92E8-EB85-4FB8-81F6-8AB77AA707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F0D23-AF61-4B11-AC8E-ABFC31B3993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2C052-3316-43DB-8153-1A9927C098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EF0DE-4C3F-4F12-9CA5-6D4B8614C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CF07-7BA1-4A32-A506-5D68C789AD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8FD01-8AA4-44F9-867B-E3B05E4EA36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2BCEE-0D55-4075-8A9A-F830A4F60E3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46A37-AB04-4EDC-9509-F4F89A6F111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2CEE9-5EBD-4898-9103-8815C11230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00EAD-7D98-4518-85A9-FE2D1C25C8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61CF2-8788-4A21-A967-0B095773523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B9832-5826-48C7-8A12-E5583F737E6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3832-0B24-4D3E-BB6A-AF95BF6AEC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92EC-6918-4483-A5E8-516D90B8B1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D564-125D-47DD-9D92-00117570A4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B03A1-99BD-4350-B2D3-B70A7DFD0BB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3105-22AA-441D-80E0-D062E8C84B4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2FB8-6167-41AC-BCB1-E51B8178572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F222-3FE2-4A30-B4D3-D8C60DE4C6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7EF7-3067-476F-9E10-6A1470DBC96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2C3DA-4287-4B63-B947-71CC31724D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8AF1-34DE-4E08-8C04-ADA1874410F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04A2-2C31-4AB6-9822-7B3BB4E2DD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80DF-E928-465D-87BF-35E204D9076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B27E-1DDE-4EEE-8D91-AC2DC540058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ABDCC-AC1B-4792-8BB6-CDDDB914E08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7532B-6BAF-4999-9080-4016EF960F2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2B195-2C37-455B-921A-029F295CB2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A31-52FB-4585-94B4-5BBEFAC3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62CBA-F1BD-4C02-8F93-C792730FB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5E63-6F24-474B-AE62-47F1AC973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03D46-D542-4C89-B34A-6B84ED1925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B143-2B4B-4022-B9A6-82C49457F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65AF6-87A7-4D90-9E98-4A543D222C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164F3-B181-4B38-B4E1-92FB1F90A3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21747-4E2A-4363-80AE-49288124E5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C8992-F196-4B5E-B901-C63CD47D0B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DA2C0-7E15-4BB5-8744-D1E92B4B81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7102-B19E-4A85-9053-B6125C61E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207-C86D-43E1-91BC-94313251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9460B-402E-473F-BE40-03F163E52F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9796D-AB40-499B-97DE-66489BA1A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7F84B-9384-4BAA-984D-6597A363DB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4CAFD-99AC-4E5C-AB5B-4CB7E5027B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AEC8D-98FE-4234-95B5-E5402FBB80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8ED3-F695-4B8A-9B2E-3A59FBC5B9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37E1-DB58-41C7-87AD-CB4F51737D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CA2-5263-4628-AAA1-C4AD916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E739-DD8B-421F-80C4-B580AC505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39E-6B80-426A-99A5-94B25D6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2AA0-3110-4059-8096-7ED5282D35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CD83-5B1B-4868-B56A-FCD3B0C25A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543-1B6B-411F-AD39-F52DFF18AB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E1E5-B7AE-4341-9C36-5A4D6010F8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D16B-B0D4-4219-A8DC-D829A9208A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2613-8B51-452D-A8A9-6EDC89A7AA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DA6-81EF-4C61-9329-9AF10DBC60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1DC-0EA9-4F84-8692-525C247225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BDD-D99B-4482-8792-32C27BD2BB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11E5-CCF0-4088-8FC3-840C066A1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9D9-097F-4A51-BAFE-17F5EE5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F3A-05F2-477E-A5CB-5C78D716EB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AF6DF-07B0-414B-A7C3-B561F54706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2C95E-8C42-454E-BDE1-61A499221E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C2EAF-39EC-488D-8BA2-0E875DA029E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873FB-9B6B-4BD6-9E45-819537AF80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B0449-044D-414F-8F1D-A8804A72A2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B6C98-9A8E-4DC8-B505-033A0EC63D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3D420-D401-41B8-9EE8-D5A426CC9F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17B51-B0D0-4677-A62C-E22575046C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3167B-9548-4BBE-9A34-DF6E3DABA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413-14AB-47BA-B5CE-29BAECA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B2E80-D39D-416E-A903-ABBC69A8F7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89B2C-1978-4AA2-B6FC-B33C94DA8D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25D00-2B03-41C0-AA73-A8292AF8AA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76307-B142-4922-A3D0-D94802D9DC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C3F38-9FA4-4C0B-BD57-D22D0609EE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48A20-548B-4248-93E4-4019CA0FBF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0BD09-6146-45FA-9E6C-0818CCA829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39339-BA52-457F-801E-C2256430D3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12A7D-D91C-4FAB-A177-42D5812C6F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9F0CF-D62E-4C94-9A22-9C1637E05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FB4-4279-424A-9414-A73A747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9EC2F-6D23-4738-85F7-269E79210C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F1F6C-8F1F-4573-BD09-E22C8308CB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33F44-26E5-4994-A70B-847E803A7E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80D44-4523-40D5-9585-7715ED0B19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0A9E-4AEF-4AD1-9340-70AFC1B57FA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8876-C32B-44A8-8F3D-C5FDD4AF654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5393-E9DE-4D40-B810-6CCDF0DE8B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BA5D-6A4A-40D4-861F-824F8A8355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7937-FCAF-468D-A7D3-5068AE7E8E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6630-EC0A-4397-A96C-B0EDDFC18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B7C-6688-42DC-89D2-D586A25F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01FE-9878-478C-A0C8-53F67B91EE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0C44-E4C2-49AB-A53B-D1F49324773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0B9F-80D2-4464-B0A8-49F682BC08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CDFB-EAEA-4106-A1A9-FF7158D3B2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DEA5-2C47-4D3C-8A6C-11A3098FC8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1BA7-F800-4ED7-80D8-1121BA04AC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94EA-A44C-49FF-8382-E87343B698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76486-7EAF-42AF-8ADA-B70EA0F76D6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E2560-84C6-4759-AE9A-9D2CF572CC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82F5B-CDE6-4BFD-9797-56575796A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0D26-2A0C-4471-9D1D-52797FA101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98EE-0CF2-4AD3-B177-27683F0232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1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48F-A046-4AD9-B0EC-3146C544FB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2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428-A564-4C80-925F-E5B8A552AD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3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B08-3BFA-4A37-A650-23A8C1C4A5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0D0-B2E2-4DA3-9A67-75EEC23113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5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150-908F-423E-B201-91EBEC822A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5"/>
          <p:cNvSpPr/>
          <p:nvPr/>
        </p:nvSpPr>
        <p:spPr>
          <a:xfrm>
            <a:off x="152280" y="6553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30A0879B-3EB7-41FC-AAEE-7FFB6947EA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B2D-0D58-433B-B68D-64007C23C1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52280" y="6553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733920" y="65530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B16-6020-4ED4-BF59-BB119B625D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5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A152-0D97-43AB-AB7C-8BBDEFD2A0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2204-689E-49E9-80F5-91B76B5729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2212-AF24-4533-B6D2-70385FFE66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Object 3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ECC-3082-4AB7-AC38-ABDA251967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7"/>
          <p:cNvSpPr/>
          <p:nvPr/>
        </p:nvSpPr>
        <p:spPr>
          <a:xfrm>
            <a:off x="2413080" y="3095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Market System and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ircular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4229280" y="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visible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9640" y="1501920"/>
            <a:ext cx="78357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76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alth of Na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m Sm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y of private and social 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s of the marke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599C5857-A0EE-4BC5-B35C-0F58327C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6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5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man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218960" y="1440000"/>
            <a:ext cx="760716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viet Union, Eastern Europe,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was a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ordin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output targets for all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entive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adjustments for shortage o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26E4765-F97D-4F07-AF97-3F7A1EB17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6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4"/>
          <p:cNvSpPr/>
          <p:nvPr/>
        </p:nvSpPr>
        <p:spPr>
          <a:xfrm>
            <a:off x="4683240" y="1476360"/>
            <a:ext cx="129384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5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1714680" y="3416400"/>
            <a:ext cx="133344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0"/>
          <p:cNvSpPr/>
          <p:nvPr/>
        </p:nvSpPr>
        <p:spPr>
          <a:xfrm>
            <a:off x="7550280" y="3416400"/>
            <a:ext cx="14158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5D4542B-586C-4F3E-94FC-539CE003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WordArt 43"/>
          <p:cNvSpPr txBox="1"/>
          <p:nvPr/>
        </p:nvSpPr>
        <p:spPr>
          <a:xfrm rot="19236000">
            <a:off x="2033640" y="17982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8" name="WordArt 44"/>
          <p:cNvSpPr txBox="1"/>
          <p:nvPr/>
        </p:nvSpPr>
        <p:spPr>
          <a:xfrm rot="1800000">
            <a:off x="7176600" y="1714320"/>
            <a:ext cx="179100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9" name="WordArt 48"/>
          <p:cNvSpPr txBox="1"/>
          <p:nvPr/>
        </p:nvSpPr>
        <p:spPr>
          <a:xfrm rot="1800000">
            <a:off x="1933200" y="5865840"/>
            <a:ext cx="1274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0" name="WordArt 50"/>
          <p:cNvSpPr txBox="1"/>
          <p:nvPr/>
        </p:nvSpPr>
        <p:spPr>
          <a:xfrm rot="19921200">
            <a:off x="7429680" y="5817960"/>
            <a:ext cx="14475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2049480" y="1660680"/>
            <a:ext cx="6640200" cy="4471560"/>
            <a:chOff x="2049480" y="1660680"/>
            <a:chExt cx="6640200" cy="4471560"/>
          </a:xfrm>
        </p:grpSpPr>
        <p:sp>
          <p:nvSpPr>
            <p:cNvPr id="673" name="AutoShape 4"/>
            <p:cNvSpPr/>
            <p:nvPr/>
          </p:nvSpPr>
          <p:spPr>
            <a:xfrm>
              <a:off x="2239920" y="183996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Group 5"/>
            <p:cNvGrpSpPr/>
            <p:nvPr/>
          </p:nvGrpSpPr>
          <p:grpSpPr>
            <a:xfrm>
              <a:off x="4506480" y="1660680"/>
              <a:ext cx="360720" cy="358560"/>
              <a:chOff x="4506480" y="1660680"/>
              <a:chExt cx="360720" cy="358560"/>
            </a:xfrm>
          </p:grpSpPr>
          <p:sp>
            <p:nvSpPr>
              <p:cNvPr id="675" name="Rectangle 6"/>
              <p:cNvSpPr/>
              <p:nvPr/>
            </p:nvSpPr>
            <p:spPr>
              <a:xfrm>
                <a:off x="4516200" y="166536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7"/>
              <p:cNvSpPr/>
              <p:nvPr/>
            </p:nvSpPr>
            <p:spPr>
              <a:xfrm rot="5400000">
                <a:off x="4434840" y="1731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8"/>
            <p:cNvGrpSpPr/>
            <p:nvPr/>
          </p:nvGrpSpPr>
          <p:grpSpPr>
            <a:xfrm>
              <a:off x="2049480" y="4282920"/>
              <a:ext cx="369360" cy="311040"/>
              <a:chOff x="2049480" y="4282920"/>
              <a:chExt cx="369360" cy="31104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2049480" y="4282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10"/>
              <p:cNvSpPr/>
              <p:nvPr/>
            </p:nvSpPr>
            <p:spPr>
              <a:xfrm>
                <a:off x="2060280" y="437832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1"/>
            <p:cNvGrpSpPr/>
            <p:nvPr/>
          </p:nvGrpSpPr>
          <p:grpSpPr>
            <a:xfrm>
              <a:off x="8317080" y="3205080"/>
              <a:ext cx="372600" cy="304920"/>
              <a:chOff x="8317080" y="3205080"/>
              <a:chExt cx="372600" cy="304920"/>
            </a:xfrm>
          </p:grpSpPr>
          <p:sp>
            <p:nvSpPr>
              <p:cNvPr id="681" name="Rectangle 12"/>
              <p:cNvSpPr/>
              <p:nvPr/>
            </p:nvSpPr>
            <p:spPr>
              <a:xfrm>
                <a:off x="8339040" y="32115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utoShape 13"/>
              <p:cNvSpPr/>
              <p:nvPr/>
            </p:nvSpPr>
            <p:spPr>
              <a:xfrm rot="10800000">
                <a:off x="8317080" y="320508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4"/>
            <p:cNvGrpSpPr/>
            <p:nvPr/>
          </p:nvGrpSpPr>
          <p:grpSpPr>
            <a:xfrm>
              <a:off x="5878440" y="5773680"/>
              <a:ext cx="357120" cy="358560"/>
              <a:chOff x="5878440" y="5773680"/>
              <a:chExt cx="357120" cy="358560"/>
            </a:xfrm>
          </p:grpSpPr>
          <p:sp>
            <p:nvSpPr>
              <p:cNvPr id="684" name="Rectangle 15"/>
              <p:cNvSpPr/>
              <p:nvPr/>
            </p:nvSpPr>
            <p:spPr>
              <a:xfrm>
                <a:off x="5878440" y="582264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6"/>
              <p:cNvSpPr/>
              <p:nvPr/>
            </p:nvSpPr>
            <p:spPr>
              <a:xfrm rot="16200000">
                <a:off x="5948280" y="5844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Rectangle 17"/>
          <p:cNvSpPr/>
          <p:nvPr/>
        </p:nvSpPr>
        <p:spPr>
          <a:xfrm>
            <a:off x="6024600" y="438480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1928880" y="166068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1919160" y="4384800"/>
            <a:ext cx="279396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0"/>
          <p:cNvSpPr/>
          <p:nvPr/>
        </p:nvSpPr>
        <p:spPr>
          <a:xfrm>
            <a:off x="6014880" y="1670040"/>
            <a:ext cx="2794320" cy="175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1"/>
          <p:cNvGrpSpPr/>
          <p:nvPr/>
        </p:nvGrpSpPr>
        <p:grpSpPr>
          <a:xfrm>
            <a:off x="2436480" y="2004480"/>
            <a:ext cx="5856480" cy="3799080"/>
            <a:chOff x="2436480" y="2004480"/>
            <a:chExt cx="5856480" cy="3799080"/>
          </a:xfrm>
        </p:grpSpPr>
        <p:sp>
          <p:nvSpPr>
            <p:cNvPr id="691" name="AutoShape 22"/>
            <p:cNvSpPr/>
            <p:nvPr/>
          </p:nvSpPr>
          <p:spPr>
            <a:xfrm>
              <a:off x="2614680" y="2171880"/>
              <a:ext cx="5506920" cy="345564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3"/>
            <p:cNvGrpSpPr/>
            <p:nvPr/>
          </p:nvGrpSpPr>
          <p:grpSpPr>
            <a:xfrm>
              <a:off x="2436480" y="3203280"/>
              <a:ext cx="368640" cy="311040"/>
              <a:chOff x="2436480" y="3203280"/>
              <a:chExt cx="368640" cy="311040"/>
            </a:xfrm>
          </p:grpSpPr>
          <p:sp>
            <p:nvSpPr>
              <p:cNvPr id="693" name="Rectangle 24"/>
              <p:cNvSpPr/>
              <p:nvPr/>
            </p:nvSpPr>
            <p:spPr>
              <a:xfrm>
                <a:off x="2454120" y="32162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25"/>
              <p:cNvSpPr/>
              <p:nvPr/>
            </p:nvSpPr>
            <p:spPr>
              <a:xfrm rot="10800000">
                <a:off x="2436480" y="32032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26"/>
            <p:cNvGrpSpPr/>
            <p:nvPr/>
          </p:nvGrpSpPr>
          <p:grpSpPr>
            <a:xfrm>
              <a:off x="7929720" y="4280040"/>
              <a:ext cx="363240" cy="309600"/>
              <a:chOff x="7929720" y="4280040"/>
              <a:chExt cx="363240" cy="309600"/>
            </a:xfrm>
          </p:grpSpPr>
          <p:sp>
            <p:nvSpPr>
              <p:cNvPr id="696" name="Rectangle 27"/>
              <p:cNvSpPr/>
              <p:nvPr/>
            </p:nvSpPr>
            <p:spPr>
              <a:xfrm>
                <a:off x="7929720" y="42800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8"/>
              <p:cNvSpPr/>
              <p:nvPr/>
            </p:nvSpPr>
            <p:spPr>
              <a:xfrm>
                <a:off x="7934400" y="43736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9"/>
            <p:cNvGrpSpPr/>
            <p:nvPr/>
          </p:nvGrpSpPr>
          <p:grpSpPr>
            <a:xfrm>
              <a:off x="5872320" y="2004480"/>
              <a:ext cx="360360" cy="358920"/>
              <a:chOff x="5872320" y="2004480"/>
              <a:chExt cx="360360" cy="358920"/>
            </a:xfrm>
          </p:grpSpPr>
          <p:sp>
            <p:nvSpPr>
              <p:cNvPr id="699" name="Rectangle 30"/>
              <p:cNvSpPr/>
              <p:nvPr/>
            </p:nvSpPr>
            <p:spPr>
              <a:xfrm>
                <a:off x="5872320" y="2009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31"/>
              <p:cNvSpPr/>
              <p:nvPr/>
            </p:nvSpPr>
            <p:spPr>
              <a:xfrm rot="16200000">
                <a:off x="5945040" y="20757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32"/>
            <p:cNvGrpSpPr/>
            <p:nvPr/>
          </p:nvGrpSpPr>
          <p:grpSpPr>
            <a:xfrm>
              <a:off x="4500360" y="5445000"/>
              <a:ext cx="355320" cy="358560"/>
              <a:chOff x="4500360" y="5445000"/>
              <a:chExt cx="355320" cy="358560"/>
            </a:xfrm>
          </p:grpSpPr>
          <p:sp>
            <p:nvSpPr>
              <p:cNvPr id="702" name="Rectangle 33"/>
              <p:cNvSpPr/>
              <p:nvPr/>
            </p:nvSpPr>
            <p:spPr>
              <a:xfrm>
                <a:off x="4505040" y="54925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34"/>
              <p:cNvSpPr/>
              <p:nvPr/>
            </p:nvSpPr>
            <p:spPr>
              <a:xfrm rot="5400000">
                <a:off x="4428720" y="55162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Rectangle 35"/>
          <p:cNvSpPr/>
          <p:nvPr/>
        </p:nvSpPr>
        <p:spPr>
          <a:xfrm>
            <a:off x="4721400" y="1514520"/>
            <a:ext cx="1293480" cy="9666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6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47"/>
          <p:cNvSpPr txBox="1"/>
          <p:nvPr/>
        </p:nvSpPr>
        <p:spPr>
          <a:xfrm rot="1800000">
            <a:off x="2700000" y="47653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7" name="Rectangle 38"/>
          <p:cNvSpPr/>
          <p:nvPr/>
        </p:nvSpPr>
        <p:spPr>
          <a:xfrm>
            <a:off x="1922400" y="4384800"/>
            <a:ext cx="279396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49"/>
          <p:cNvSpPr txBox="1"/>
          <p:nvPr/>
        </p:nvSpPr>
        <p:spPr>
          <a:xfrm rot="19921200">
            <a:off x="6556320" y="47545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021360" y="4384800"/>
            <a:ext cx="27939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1"/>
          <p:cNvSpPr/>
          <p:nvPr/>
        </p:nvSpPr>
        <p:spPr>
          <a:xfrm>
            <a:off x="1714680" y="3416400"/>
            <a:ext cx="137160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WordArt 45"/>
          <p:cNvSpPr txBox="1"/>
          <p:nvPr/>
        </p:nvSpPr>
        <p:spPr>
          <a:xfrm rot="2216400">
            <a:off x="6565680" y="24922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2" name="WordArt 46"/>
          <p:cNvSpPr txBox="1"/>
          <p:nvPr/>
        </p:nvSpPr>
        <p:spPr>
          <a:xfrm rot="19236000">
            <a:off x="2781000" y="25477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3" name="Rectangle 42"/>
          <p:cNvSpPr/>
          <p:nvPr/>
        </p:nvSpPr>
        <p:spPr>
          <a:xfrm>
            <a:off x="7550280" y="3416400"/>
            <a:ext cx="14032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1924200" y="1438200"/>
            <a:ext cx="2793960" cy="19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0"/>
          <p:cNvSpPr/>
          <p:nvPr/>
        </p:nvSpPr>
        <p:spPr>
          <a:xfrm>
            <a:off x="6019920" y="1322280"/>
            <a:ext cx="286704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5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36654CB-8B37-42D6-8761-898D4FC0F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r Fl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2049480" y="1660680"/>
            <a:ext cx="6640200" cy="4471560"/>
            <a:chOff x="2049480" y="1660680"/>
            <a:chExt cx="6640200" cy="4471560"/>
          </a:xfrm>
        </p:grpSpPr>
        <p:sp>
          <p:nvSpPr>
            <p:cNvPr id="719" name="AutoShape 4"/>
            <p:cNvSpPr/>
            <p:nvPr/>
          </p:nvSpPr>
          <p:spPr>
            <a:xfrm>
              <a:off x="2239920" y="183996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"/>
            <p:cNvGrpSpPr/>
            <p:nvPr/>
          </p:nvGrpSpPr>
          <p:grpSpPr>
            <a:xfrm>
              <a:off x="4506480" y="1660680"/>
              <a:ext cx="360720" cy="358560"/>
              <a:chOff x="4506480" y="1660680"/>
              <a:chExt cx="360720" cy="358560"/>
            </a:xfrm>
          </p:grpSpPr>
          <p:sp>
            <p:nvSpPr>
              <p:cNvPr id="721" name="Rectangle 6"/>
              <p:cNvSpPr/>
              <p:nvPr/>
            </p:nvSpPr>
            <p:spPr>
              <a:xfrm>
                <a:off x="4516200" y="166536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7"/>
              <p:cNvSpPr/>
              <p:nvPr/>
            </p:nvSpPr>
            <p:spPr>
              <a:xfrm rot="5400000">
                <a:off x="4434840" y="1731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8"/>
            <p:cNvGrpSpPr/>
            <p:nvPr/>
          </p:nvGrpSpPr>
          <p:grpSpPr>
            <a:xfrm>
              <a:off x="2049480" y="4282920"/>
              <a:ext cx="369360" cy="311040"/>
              <a:chOff x="2049480" y="4282920"/>
              <a:chExt cx="369360" cy="311040"/>
            </a:xfrm>
          </p:grpSpPr>
          <p:sp>
            <p:nvSpPr>
              <p:cNvPr id="724" name="Rectangle 9"/>
              <p:cNvSpPr/>
              <p:nvPr/>
            </p:nvSpPr>
            <p:spPr>
              <a:xfrm>
                <a:off x="2049480" y="4282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10"/>
              <p:cNvSpPr/>
              <p:nvPr/>
            </p:nvSpPr>
            <p:spPr>
              <a:xfrm>
                <a:off x="2060280" y="437832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1"/>
            <p:cNvGrpSpPr/>
            <p:nvPr/>
          </p:nvGrpSpPr>
          <p:grpSpPr>
            <a:xfrm>
              <a:off x="8317080" y="3205080"/>
              <a:ext cx="372600" cy="304920"/>
              <a:chOff x="8317080" y="3205080"/>
              <a:chExt cx="372600" cy="304920"/>
            </a:xfrm>
          </p:grpSpPr>
          <p:sp>
            <p:nvSpPr>
              <p:cNvPr id="727" name="Rectangle 12"/>
              <p:cNvSpPr/>
              <p:nvPr/>
            </p:nvSpPr>
            <p:spPr>
              <a:xfrm>
                <a:off x="8339040" y="32115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13"/>
              <p:cNvSpPr/>
              <p:nvPr/>
            </p:nvSpPr>
            <p:spPr>
              <a:xfrm rot="10800000">
                <a:off x="8317080" y="320508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4"/>
            <p:cNvGrpSpPr/>
            <p:nvPr/>
          </p:nvGrpSpPr>
          <p:grpSpPr>
            <a:xfrm>
              <a:off x="5878440" y="5773680"/>
              <a:ext cx="357120" cy="358560"/>
              <a:chOff x="5878440" y="5773680"/>
              <a:chExt cx="357120" cy="358560"/>
            </a:xfrm>
          </p:grpSpPr>
          <p:sp>
            <p:nvSpPr>
              <p:cNvPr id="730" name="Rectangle 15"/>
              <p:cNvSpPr/>
              <p:nvPr/>
            </p:nvSpPr>
            <p:spPr>
              <a:xfrm>
                <a:off x="5878440" y="582264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16"/>
              <p:cNvSpPr/>
              <p:nvPr/>
            </p:nvSpPr>
            <p:spPr>
              <a:xfrm rot="16200000">
                <a:off x="5948280" y="58449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21"/>
          <p:cNvGrpSpPr/>
          <p:nvPr/>
        </p:nvGrpSpPr>
        <p:grpSpPr>
          <a:xfrm>
            <a:off x="2436480" y="2004480"/>
            <a:ext cx="5856480" cy="3799080"/>
            <a:chOff x="2436480" y="2004480"/>
            <a:chExt cx="5856480" cy="3799080"/>
          </a:xfrm>
        </p:grpSpPr>
        <p:sp>
          <p:nvSpPr>
            <p:cNvPr id="733" name="AutoShape 22"/>
            <p:cNvSpPr/>
            <p:nvPr/>
          </p:nvSpPr>
          <p:spPr>
            <a:xfrm>
              <a:off x="2614680" y="2171880"/>
              <a:ext cx="5506920" cy="345564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23"/>
            <p:cNvGrpSpPr/>
            <p:nvPr/>
          </p:nvGrpSpPr>
          <p:grpSpPr>
            <a:xfrm>
              <a:off x="2436480" y="3203280"/>
              <a:ext cx="368640" cy="311040"/>
              <a:chOff x="2436480" y="3203280"/>
              <a:chExt cx="368640" cy="311040"/>
            </a:xfrm>
          </p:grpSpPr>
          <p:sp>
            <p:nvSpPr>
              <p:cNvPr id="735" name="Rectangle 24"/>
              <p:cNvSpPr/>
              <p:nvPr/>
            </p:nvSpPr>
            <p:spPr>
              <a:xfrm>
                <a:off x="2454120" y="32162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25"/>
              <p:cNvSpPr/>
              <p:nvPr/>
            </p:nvSpPr>
            <p:spPr>
              <a:xfrm rot="10800000">
                <a:off x="2436480" y="32032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26"/>
            <p:cNvGrpSpPr/>
            <p:nvPr/>
          </p:nvGrpSpPr>
          <p:grpSpPr>
            <a:xfrm>
              <a:off x="7929720" y="4280040"/>
              <a:ext cx="363240" cy="309600"/>
              <a:chOff x="7929720" y="4280040"/>
              <a:chExt cx="363240" cy="309600"/>
            </a:xfrm>
          </p:grpSpPr>
          <p:sp>
            <p:nvSpPr>
              <p:cNvPr id="738" name="Rectangle 27"/>
              <p:cNvSpPr/>
              <p:nvPr/>
            </p:nvSpPr>
            <p:spPr>
              <a:xfrm>
                <a:off x="7929720" y="42800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28"/>
              <p:cNvSpPr/>
              <p:nvPr/>
            </p:nvSpPr>
            <p:spPr>
              <a:xfrm>
                <a:off x="7934400" y="43736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29"/>
            <p:cNvGrpSpPr/>
            <p:nvPr/>
          </p:nvGrpSpPr>
          <p:grpSpPr>
            <a:xfrm>
              <a:off x="5872320" y="2004480"/>
              <a:ext cx="360360" cy="358920"/>
              <a:chOff x="5872320" y="2004480"/>
              <a:chExt cx="360360" cy="358920"/>
            </a:xfrm>
          </p:grpSpPr>
          <p:sp>
            <p:nvSpPr>
              <p:cNvPr id="741" name="Rectangle 30"/>
              <p:cNvSpPr/>
              <p:nvPr/>
            </p:nvSpPr>
            <p:spPr>
              <a:xfrm>
                <a:off x="5872320" y="2009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31"/>
              <p:cNvSpPr/>
              <p:nvPr/>
            </p:nvSpPr>
            <p:spPr>
              <a:xfrm rot="16200000">
                <a:off x="5945040" y="20757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32"/>
            <p:cNvGrpSpPr/>
            <p:nvPr/>
          </p:nvGrpSpPr>
          <p:grpSpPr>
            <a:xfrm>
              <a:off x="4500360" y="5445000"/>
              <a:ext cx="355320" cy="358560"/>
              <a:chOff x="4500360" y="5445000"/>
              <a:chExt cx="355320" cy="358560"/>
            </a:xfrm>
          </p:grpSpPr>
          <p:sp>
            <p:nvSpPr>
              <p:cNvPr id="744" name="Rectangle 33"/>
              <p:cNvSpPr/>
              <p:nvPr/>
            </p:nvSpPr>
            <p:spPr>
              <a:xfrm>
                <a:off x="4505040" y="54925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34"/>
              <p:cNvSpPr/>
              <p:nvPr/>
            </p:nvSpPr>
            <p:spPr>
              <a:xfrm rot="5400000">
                <a:off x="4428720" y="55162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35"/>
          <p:cNvSpPr/>
          <p:nvPr/>
        </p:nvSpPr>
        <p:spPr>
          <a:xfrm>
            <a:off x="4721400" y="1514520"/>
            <a:ext cx="1293480" cy="9666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6"/>
          <p:cNvSpPr/>
          <p:nvPr/>
        </p:nvSpPr>
        <p:spPr>
          <a:xfrm>
            <a:off x="4721400" y="5308560"/>
            <a:ext cx="1293480" cy="9669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1"/>
          <p:cNvSpPr/>
          <p:nvPr/>
        </p:nvSpPr>
        <p:spPr>
          <a:xfrm>
            <a:off x="1714680" y="3416400"/>
            <a:ext cx="139680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2"/>
          <p:cNvSpPr/>
          <p:nvPr/>
        </p:nvSpPr>
        <p:spPr>
          <a:xfrm>
            <a:off x="7550280" y="3416400"/>
            <a:ext cx="1390680" cy="9666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43"/>
          <p:cNvSpPr txBox="1"/>
          <p:nvPr/>
        </p:nvSpPr>
        <p:spPr>
          <a:xfrm rot="19236000">
            <a:off x="2033640" y="17982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1" name="WordArt 44"/>
          <p:cNvSpPr txBox="1"/>
          <p:nvPr/>
        </p:nvSpPr>
        <p:spPr>
          <a:xfrm rot="1800000">
            <a:off x="7176600" y="1714320"/>
            <a:ext cx="179100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2" name="WordArt 45"/>
          <p:cNvSpPr txBox="1"/>
          <p:nvPr/>
        </p:nvSpPr>
        <p:spPr>
          <a:xfrm rot="2216400">
            <a:off x="6565680" y="24922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3" name="WordArt 46"/>
          <p:cNvSpPr txBox="1"/>
          <p:nvPr/>
        </p:nvSpPr>
        <p:spPr>
          <a:xfrm rot="19236000">
            <a:off x="2781000" y="25477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4" name="WordArt 47"/>
          <p:cNvSpPr txBox="1"/>
          <p:nvPr/>
        </p:nvSpPr>
        <p:spPr>
          <a:xfrm rot="1800000">
            <a:off x="2700000" y="47653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5" name="WordArt 48"/>
          <p:cNvSpPr txBox="1"/>
          <p:nvPr/>
        </p:nvSpPr>
        <p:spPr>
          <a:xfrm rot="1800000">
            <a:off x="1771560" y="5900400"/>
            <a:ext cx="1416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6" name="WordArt 49"/>
          <p:cNvSpPr txBox="1"/>
          <p:nvPr/>
        </p:nvSpPr>
        <p:spPr>
          <a:xfrm rot="19921200">
            <a:off x="6556320" y="47545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7" name="WordArt 50"/>
          <p:cNvSpPr txBox="1"/>
          <p:nvPr/>
        </p:nvSpPr>
        <p:spPr>
          <a:xfrm rot="19921200">
            <a:off x="7429680" y="5817960"/>
            <a:ext cx="14475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8" name="Text Box 51" descr=""/>
          <p:cNvPicPr/>
          <p:nvPr/>
        </p:nvPicPr>
        <p:blipFill>
          <a:blip r:embed="rId1"/>
          <a:stretch/>
        </p:blipFill>
        <p:spPr>
          <a:xfrm>
            <a:off x="3700440" y="3054240"/>
            <a:ext cx="3492360" cy="16830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44"/>
          <p:cNvSpPr/>
          <p:nvPr/>
        </p:nvSpPr>
        <p:spPr>
          <a:xfrm>
            <a:off x="380880" y="507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584280" y="87624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2; page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6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447943D-C712-4490-B8FB-F15321FAC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52560" y="1333440"/>
            <a:ext cx="400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of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e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sible ha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flow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"/>
          <p:cNvSpPr/>
          <p:nvPr/>
        </p:nvSpPr>
        <p:spPr>
          <a:xfrm>
            <a:off x="6896160" y="64580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349B913-F418-4D7C-A267-6A976AE8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1890720" y="2154240"/>
            <a:ext cx="613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mand, Supply, and the Market Equilibr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E8DC2CB-BABA-4C4D-B619-18308AD3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117080" y="1275840"/>
            <a:ext cx="7836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, how, and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 and progress in the marke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rcular flow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661D2784-0C9D-48EC-890C-2986C319C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6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63280" y="1166760"/>
            <a:ext cx="828036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 of institutional arran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ng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 based 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owns the factors of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ethod directs economic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D144BE6-3B28-44FF-BAAE-257B0CA3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6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28520" y="1166760"/>
            <a:ext cx="7086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te o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man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ow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ral plann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ABB9A2C9-6AF0-4804-8125-38A99C38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6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of Economic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916640" y="3413160"/>
            <a:ext cx="932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455640" y="3413160"/>
            <a:ext cx="130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5065560" y="3413160"/>
            <a:ext cx="13068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558840" y="3413160"/>
            <a:ext cx="199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1306800" y="421812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3287880" y="421812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-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-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993560" y="4218120"/>
            <a:ext cx="14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- 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6-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4-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6555600" y="421812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8-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6-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7- Nor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"/>
          <p:cNvGrpSpPr/>
          <p:nvPr/>
        </p:nvGrpSpPr>
        <p:grpSpPr>
          <a:xfrm>
            <a:off x="1390680" y="3303720"/>
            <a:ext cx="7089840" cy="1763640"/>
            <a:chOff x="1390680" y="3303720"/>
            <a:chExt cx="7089840" cy="1763640"/>
          </a:xfrm>
        </p:grpSpPr>
        <p:sp>
          <p:nvSpPr>
            <p:cNvPr id="637" name="Line 13"/>
            <p:cNvSpPr/>
            <p:nvPr/>
          </p:nvSpPr>
          <p:spPr>
            <a:xfrm>
              <a:off x="1390680" y="4206600"/>
              <a:ext cx="708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4"/>
            <p:cNvSpPr/>
            <p:nvPr/>
          </p:nvSpPr>
          <p:spPr>
            <a:xfrm>
              <a:off x="330984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5"/>
            <p:cNvSpPr/>
            <p:nvPr/>
          </p:nvSpPr>
          <p:spPr>
            <a:xfrm>
              <a:off x="493848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6"/>
            <p:cNvSpPr/>
            <p:nvPr/>
          </p:nvSpPr>
          <p:spPr>
            <a:xfrm>
              <a:off x="6500880" y="3303720"/>
              <a:ext cx="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Box 27"/>
          <p:cNvSpPr/>
          <p:nvPr/>
        </p:nvSpPr>
        <p:spPr>
          <a:xfrm>
            <a:off x="1219320" y="1676520"/>
            <a:ext cx="70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king of 157 countries for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A93FB95-23A1-4646-917D-547DE194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36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41480" y="1471680"/>
            <a:ext cx="78739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of enterprise and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s an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522A15F-9054-4CE9-B689-85B196BE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6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36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990720" y="1496880"/>
            <a:ext cx="797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and capital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graphic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, limited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925DCF8-AFF4-42BC-8E06-68F4556E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6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2114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28520" y="1614600"/>
            <a:ext cx="79628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be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sovereig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ar v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goods be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3E065CBD-79A7-42CE-9E41-E07CE4FDE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1" dur="1" fill="hold"/>
                                  <p:tgtEl>
                                    <p:spTgt spid="6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System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39600" y="1198440"/>
            <a:ext cx="82040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gets the outp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p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change  accommod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progress promo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ital accu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781680" y="64389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1AA4D9FD-E552-4BB0-89FE-C162A801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6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16:57:10Z</dcterms:created>
  <dc:creator>C. Norman Hollingsworth</dc:creator>
  <dc:description/>
  <dc:language>en-US</dc:language>
  <cp:lastModifiedBy>Local User</cp:lastModifiedBy>
  <dcterms:modified xsi:type="dcterms:W3CDTF">2011-09-26T17:54:29Z</dcterms:modified>
  <cp:revision>142</cp:revision>
  <dc:subject>McConnell-Brue Economics</dc:subject>
  <dc:title>Chapter 2</dc:title>
</cp:coreProperties>
</file>